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54BD-BA09-4622-A672-22EF2F52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35B-6014-4648-B83F-D1EA51C4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689-1EC0-4012-AD16-2CBA49FB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D4B-A02D-4F6E-972C-A6D5EA40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202-DECE-4887-BFF6-84D351DA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A49A-E6B9-40C8-8AC4-597D06BD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9BB-EE96-42D6-8030-C1419EB0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DF8-A744-46D6-9A2A-0EEC85DD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53DB-23BF-4505-8A74-9F6643BB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356-08F9-43F9-827A-2F728CC4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4800-29A4-4A4B-8CA3-8524845F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35D-7D16-401F-B5A7-C719D0F1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1B87-4CA7-4B7C-A6C9-5FCA6CD4C4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609480" y="438120"/>
            <a:ext cx="82551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3336840" cy="41911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5105520" y="533520"/>
            <a:ext cx="312408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8e28bea376c3"/>
          <p:cNvPicPr/>
          <p:nvPr/>
        </p:nvPicPr>
        <p:blipFill>
          <a:blip r:embed="rId1"/>
          <a:stretch/>
        </p:blipFill>
        <p:spPr>
          <a:xfrm>
            <a:off x="533520" y="3276720"/>
            <a:ext cx="4248000" cy="2916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3300"/>
                </a:solidFill>
                <a:latin typeface="Arial"/>
              </a:rPr>
              <a:t>Тема: </a:t>
            </a:r>
            <a:r>
              <a:rPr b="1" lang="ru-RU" sz="4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АНТОНИ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315200" cy="48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380880" y="509760"/>
            <a:ext cx="8382240" cy="573084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2" descr=""/>
          <p:cNvPicPr/>
          <p:nvPr/>
        </p:nvPicPr>
        <p:blipFill>
          <a:blip r:embed="rId2"/>
          <a:stretch/>
        </p:blipFill>
        <p:spPr>
          <a:xfrm>
            <a:off x="1901880" y="1957320"/>
            <a:ext cx="557208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ТОНИ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Прямая со стрелкой 2"/>
          <p:cNvCxnSpPr/>
          <p:nvPr/>
        </p:nvCxnSpPr>
        <p:spPr>
          <a:xfrm flipH="1">
            <a:off x="2895120" y="1142640"/>
            <a:ext cx="610560" cy="2293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1" name="Прямая со стрелкой 4"/>
          <p:cNvCxnSpPr/>
          <p:nvPr/>
        </p:nvCxnSpPr>
        <p:spPr>
          <a:xfrm>
            <a:off x="5753160" y="1104480"/>
            <a:ext cx="534240" cy="3056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52" name="Прямоугольник 8"/>
          <p:cNvSpPr/>
          <p:nvPr/>
        </p:nvSpPr>
        <p:spPr>
          <a:xfrm>
            <a:off x="990720" y="1457280"/>
            <a:ext cx="34290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3"/>
          <p:cNvSpPr/>
          <p:nvPr/>
        </p:nvSpPr>
        <p:spPr>
          <a:xfrm>
            <a:off x="990720" y="2438280"/>
            <a:ext cx="3429000" cy="61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4610160" y="1452600"/>
            <a:ext cx="4000320" cy="847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4610160" y="2414520"/>
            <a:ext cx="4000320" cy="63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1981080" y="3200400"/>
            <a:ext cx="5257800" cy="84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4"/>
          <a:stretch/>
        </p:blipFill>
        <p:spPr>
          <a:xfrm>
            <a:off x="623880" y="4191120"/>
            <a:ext cx="3795840" cy="938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5"/>
          <a:stretch/>
        </p:blipFill>
        <p:spPr>
          <a:xfrm>
            <a:off x="4719600" y="4191120"/>
            <a:ext cx="3968640" cy="938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6"/>
          <a:stretch/>
        </p:blipFill>
        <p:spPr>
          <a:xfrm>
            <a:off x="1981080" y="5334120"/>
            <a:ext cx="5257800" cy="847440"/>
          </a:xfrm>
          <a:prstGeom prst="rect">
            <a:avLst/>
          </a:prstGeom>
          <a:ln w="0">
            <a:noFill/>
          </a:ln>
        </p:spPr>
      </p:pic>
      <p:sp>
        <p:nvSpPr>
          <p:cNvPr id="60" name="TextBox 9"/>
          <p:cNvSpPr/>
          <p:nvPr/>
        </p:nvSpPr>
        <p:spPr>
          <a:xfrm>
            <a:off x="1162080" y="1614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й части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4745160" y="1590840"/>
            <a:ext cx="35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положн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1162080" y="25462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корн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5315040" y="25336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окорн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2171880" y="3300480"/>
            <a:ext cx="48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на существительные, имена прилагательные, глаголы, нареч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642960" y="4113360"/>
            <a:ext cx="379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разных значений многозначного слова разные зна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4932360" y="4267080"/>
            <a:ext cx="354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се слова могут иметь анто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7"/>
          <p:cNvSpPr/>
          <p:nvPr/>
        </p:nvSpPr>
        <p:spPr>
          <a:xfrm>
            <a:off x="2171880" y="5433840"/>
            <a:ext cx="48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онимы делают речь точной и выразите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1"/>
          <a:stretch/>
        </p:blipFill>
        <p:spPr>
          <a:xfrm>
            <a:off x="2855880" y="1600200"/>
            <a:ext cx="3432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User</cp:lastModifiedBy>
  <dcterms:modified xsi:type="dcterms:W3CDTF">2018-11-20T13:19:1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